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8.png" ContentType="image/png"/>
  <Override PartName="/ppt/media/image16.wmf" ContentType="image/x-wmf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DF92F-ED38-4FAA-9DA3-52F06A7F28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817884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6080" y="3693600"/>
            <a:ext cx="817884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22F4E-6B0F-4792-A0E9-078B59160A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6840" y="85716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06080" y="369360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96840" y="369360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2E140-8682-4251-8CAE-9DD2C6878D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26334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1600" y="857160"/>
            <a:ext cx="26334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37120" y="857160"/>
            <a:ext cx="26334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06080" y="3693600"/>
            <a:ext cx="26334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1600" y="3693600"/>
            <a:ext cx="26334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37120" y="3693600"/>
            <a:ext cx="26334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2E34F-CFDE-464D-AA8B-E46EF68031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FD7BBA-9A6E-4021-B44E-306E3A5B5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06080" y="857160"/>
            <a:ext cx="8178840" cy="54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836BF-7F5A-484E-BF9A-ADDA68AB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817884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671DA-772A-4112-9A13-242E3CAF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399096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96840" y="857160"/>
            <a:ext cx="399096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F6C6E4-6AAB-420A-AC33-B53268ED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DF26A-C61F-4AF8-A35D-95372A2E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18960" y="0"/>
            <a:ext cx="655308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742E9-03C6-44D6-80E7-0E6E6E72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6840" y="857160"/>
            <a:ext cx="399096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06080" y="369360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076198-B5A7-49D1-A074-EB8D69BE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06080" y="857160"/>
            <a:ext cx="8178840" cy="54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7B81C-B8B5-42EF-A63B-ABF11FB814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399096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6840" y="85716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96840" y="369360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4AFDE-EAC1-4854-8759-08B1C915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6840" y="85716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06080" y="3693600"/>
            <a:ext cx="817884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71D80-6C60-4E27-AB7E-0200B4BE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817884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06080" y="3693600"/>
            <a:ext cx="817884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1E95E-9237-4BC5-9AA5-41598917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96840" y="85716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06080" y="369360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96840" y="369360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A7FAC-B421-4D7F-B286-EC8108E97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26334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71600" y="857160"/>
            <a:ext cx="26334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7120" y="857160"/>
            <a:ext cx="26334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06080" y="3693600"/>
            <a:ext cx="26334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71600" y="3693600"/>
            <a:ext cx="26334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7120" y="3693600"/>
            <a:ext cx="263340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4DEE9-644B-42D6-81B5-3C098CA3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817884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0472B-E0A1-4B46-825B-96F2F34ACB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399096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96840" y="857160"/>
            <a:ext cx="399096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F84AB-7F8E-495D-A5A0-CFF9E74D62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0DEA4-D8D8-42A3-83C2-C09F2184BC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18960" y="0"/>
            <a:ext cx="655308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072B7-C7FE-44F9-AC30-6FE34AB6AF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6840" y="857160"/>
            <a:ext cx="399096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06080" y="369360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CB5A4-F125-4400-9BEA-71EFBBC374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399096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6840" y="85716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96840" y="369360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BE0B1-B753-431D-A794-28EA811853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-78840"/>
            <a:ext cx="6553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06080" y="85716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6840" y="857160"/>
            <a:ext cx="399096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6080" y="3693600"/>
            <a:ext cx="8178840" cy="25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9D6A2-B568-4C44-BBF1-5B112CEC7E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65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6080" y="857160"/>
            <a:ext cx="817884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5502240" y="6629040"/>
            <a:ext cx="298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Jacques Bouchez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74520" y="166680"/>
            <a:ext cx="7452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-330120" y="-51444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3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1107-D94B-4CCF-8D2C-8F7798893F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09480" y="2197080"/>
            <a:ext cx="320760" cy="30168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73120" y="2641680"/>
            <a:ext cx="320760" cy="30168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25680" y="2768760"/>
            <a:ext cx="320760" cy="30132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54560" y="2832120"/>
            <a:ext cx="320400" cy="30168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2857680"/>
            <a:ext cx="320400" cy="30132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99000" y="2857680"/>
            <a:ext cx="320760" cy="30132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2781360"/>
            <a:ext cx="320400" cy="30168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442280" y="2641680"/>
            <a:ext cx="320760" cy="30168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94240" y="1574640"/>
            <a:ext cx="320400" cy="30168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65360" y="1625760"/>
            <a:ext cx="320760" cy="30132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1790640"/>
            <a:ext cx="320400" cy="30168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84600" y="1549440"/>
            <a:ext cx="320760" cy="30168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1574640"/>
            <a:ext cx="320760" cy="30168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1650960"/>
            <a:ext cx="320760" cy="30168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31200" y="1816200"/>
            <a:ext cx="320400" cy="30168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70800" y="2235240"/>
            <a:ext cx="320760" cy="301680"/>
          </a:xfrm>
          <a:prstGeom prst="star5">
            <a:avLst/>
          </a:prstGeom>
          <a:solidFill>
            <a:srgbClr val="ffcc00"/>
          </a:solidFill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45240" y="1346040"/>
            <a:ext cx="66546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Radioactive Beams f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Nuclear and Neutrino Phys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Les Arcs 17-22 Mars 200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55560" y="34956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5D0F7-EEC4-46A8-AA0D-CCFEA340FE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25360" y="239760"/>
            <a:ext cx="8804520" cy="59212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57720" y="5776920"/>
            <a:ext cx="26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ERE : 250 MeV NEUTRI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10D94-E3D4-44F5-8DAE-32AFC9E9EC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525636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Far detector in second pha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7852" t="10234" r="10191" b="12423"/>
          <a:stretch/>
        </p:blipFill>
        <p:spPr>
          <a:xfrm>
            <a:off x="1951200" y="1341360"/>
            <a:ext cx="7192800" cy="465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"/>
          <p:cNvGraphicFramePr/>
          <p:nvPr/>
        </p:nvGraphicFramePr>
        <p:xfrm>
          <a:off x="900000" y="3141720"/>
          <a:ext cx="955800" cy="158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3141720"/>
                    <a:ext cx="95580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252360" y="213372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  <a:ea typeface="ＭＳ Ｐゴシック"/>
              </a:rPr>
              <a:t>Phase-I: Super-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9800" y="256536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  <a:ea typeface="ＭＳ Ｐゴシック"/>
              </a:rPr>
              <a:t>22.5kt (50k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95600" y="76500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ＭＳ Ｐゴシック"/>
              </a:rPr>
              <a:t>Phase-II: 1,000 k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6240" y="25560"/>
            <a:ext cx="590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mit to the size of large underground Water Cherenk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tectors will be given by the difficulties of excav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x width is about 50-60 meters.=&gt; increase high&amp;leng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CCEE0-28FE-4BAA-BDC6-2435B14B04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65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e Background Rej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0" t="0" r="6251" b="0"/>
          <a:stretch/>
        </p:blipFill>
        <p:spPr>
          <a:xfrm>
            <a:off x="141120" y="1504800"/>
            <a:ext cx="4219920" cy="4591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rcRect l="0" t="0" r="6159" b="0"/>
          <a:stretch/>
        </p:blipFill>
        <p:spPr>
          <a:xfrm>
            <a:off x="4572000" y="1501920"/>
            <a:ext cx="4219560" cy="45939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015920" y="950760"/>
            <a:ext cx="6638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/mu separation directly related to granularity of cover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imit is around 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-3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mu decay in flight)  SKII coverage OKOK,  less maybe pos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EE3FC-6ACB-4D6D-86E9-D0AB4963CD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ETA B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26440" y="1033560"/>
            <a:ext cx="6593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w idea by P. Zucchell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duce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e++, store, accelerate (100 GeV/u), 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01920" y="2362320"/>
            <a:ext cx="33962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=3.5078 MeV T/2  = 0.8067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re anti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beam at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600 M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74240" y="3736800"/>
            <a:ext cx="4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441440" y="4095720"/>
                <a:ext cx="354816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e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sPre>
                      <m:sub>
                        <m:r>
                          <m:t xml:space="preserve">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F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5259240" y="4406760"/>
            <a:ext cx="2939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r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beam at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600 M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2720" y="4876920"/>
            <a:ext cx="823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scillation signal: appearance of low energy mu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 opposite charge neutrinos=&gt; no need for magnetic det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ttle matter effects at these ener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Times New Roman"/>
              </a:rPr>
              <a:t>water Cerenkov excellent for this too, same as for Superbea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Times New Roman"/>
              </a:rPr>
              <a:t>seems feasible; but cost unknown so far.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ritical: duty cycle.                                                 A nice *** idea to be followed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76360" y="2330280"/>
            <a:ext cx="33688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+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++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552760"/>
            <a:ext cx="15228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CEDD7-5878-4BDC-A2F4-1DFF4F69C8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386080" y="171360"/>
            <a:ext cx="40035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ta Beam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P. Zucchell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46280" y="1398600"/>
          <a:ext cx="6399000" cy="447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1398600"/>
                    <a:ext cx="6399000" cy="44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7059600" y="5872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. Lindroos et 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7B41D-915F-4E4B-B505-24CB1CF0C6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882720" y="28260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bination of beta beam with low energy super b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16120" y="785880"/>
            <a:ext cx="6015240" cy="49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nique to CER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ed few 100 GeV accelerator (PS + SPS will do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perience in radioactive beams at ISOL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ny unknowns: what is the duty factor that can be achieved? (needs &lt; 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bines CP and T violation tes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Symbol"/>
                <a:ea typeface="Symbol"/>
              </a:rPr>
              <a:t>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)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(T)   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Symbol"/>
                <a:ea typeface="Symbol"/>
              </a:rPr>
              <a:t>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Symbol"/>
                <a:ea typeface="Symbol"/>
              </a:rPr>
              <a:t>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e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C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Symbol"/>
                <a:ea typeface="Symbol"/>
              </a:rPr>
              <a:t>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)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(T)   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Symbol"/>
                <a:ea typeface="Symbol"/>
              </a:rPr>
              <a:t>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Symbol"/>
                <a:ea typeface="Symbol"/>
              </a:rPr>
              <a:t>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e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01800" y="4359240"/>
            <a:ext cx="21600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14680" y="4359240"/>
            <a:ext cx="21600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91400" y="4384800"/>
            <a:ext cx="21600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40360" y="4371840"/>
            <a:ext cx="21600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54200" y="5792760"/>
            <a:ext cx="22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Can this work????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rcRect l="0" t="0" r="6251" b="0"/>
          <a:stretch/>
        </p:blipFill>
        <p:spPr>
          <a:xfrm>
            <a:off x="141120" y="920880"/>
            <a:ext cx="2329200" cy="2533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rcRect l="0" t="0" r="6159" b="0"/>
          <a:stretch/>
        </p:blipFill>
        <p:spPr>
          <a:xfrm>
            <a:off x="128520" y="3470400"/>
            <a:ext cx="2363760" cy="257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459BD-E4ED-4711-93FB-1605420E7C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64960" y="509760"/>
            <a:ext cx="8637840" cy="60134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983160" y="0"/>
            <a:ext cx="815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bination of Beta beam and superbeam is in the same ballpark of performance as neutrino factory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bewrare of systematics for low Energy neutrino events, though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72800" y="6310440"/>
            <a:ext cx="40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ff00"/>
                </a:solidFill>
                <a:latin typeface="Times New Roman"/>
              </a:rPr>
              <a:t>M.Mezzetto, CERN workshop NNN02, january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61400" y="3122640"/>
            <a:ext cx="14259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imes New Roman"/>
              </a:rPr>
              <a:t>lowest LMA.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9157E-E417-45BF-A293-93CE7505BA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223640" y="168120"/>
            <a:ext cx="56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0000"/>
                </a:solidFill>
                <a:latin typeface="Times New Roman"/>
              </a:rPr>
              <a:t>OUTCOME OF THE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88040" y="866880"/>
            <a:ext cx="7096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3333ff"/>
                </a:solidFill>
                <a:latin typeface="Times New Roman"/>
              </a:rPr>
              <a:t>New ideas</a:t>
            </a:r>
            <a:r>
              <a:rPr b="1" lang="fr-C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CH" sz="2800" spc="-1" strike="noStrike">
                <a:solidFill>
                  <a:srgbClr val="3333ff"/>
                </a:solidFill>
                <a:latin typeface="Times New Roman"/>
              </a:rPr>
              <a:t>for the beta beam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CH" sz="2800" spc="-1" strike="noStrike">
                <a:solidFill>
                  <a:srgbClr val="000000"/>
                </a:solidFill>
                <a:latin typeface="Times New Roman"/>
              </a:rPr>
              <a:t>Pulsed ECR source for easier bunching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CH" sz="2800" spc="-1" strike="noStrike">
                <a:solidFill>
                  <a:srgbClr val="000000"/>
                </a:solidFill>
                <a:latin typeface="Times New Roman"/>
              </a:rPr>
              <a:t>Ne18 production multilplied by 3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CH" sz="2800" spc="-1" strike="noStrike">
                <a:solidFill>
                  <a:srgbClr val="000000"/>
                </a:solidFill>
                <a:latin typeface="Times New Roman"/>
              </a:rPr>
              <a:t>Simultaneous operation with Ne18 and He6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CH" sz="2800" spc="-1" strike="noStrike">
                <a:solidFill>
                  <a:srgbClr val="000000"/>
                </a:solidFill>
                <a:latin typeface="Times New Roman"/>
              </a:rPr>
              <a:t>Importance of low energy beta b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160" y="3381480"/>
            <a:ext cx="6915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3333ff"/>
                </a:solidFill>
                <a:latin typeface="Times New Roman"/>
              </a:rPr>
              <a:t>Beta beams studies to be incorporated as 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3333ff"/>
                </a:solidFill>
                <a:latin typeface="Times New Roman"/>
              </a:rPr>
              <a:t>additional work package of EURI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3333ff"/>
                </a:solidFill>
                <a:latin typeface="Times New Roman"/>
              </a:rPr>
              <a:t>Driver compatibility needs more stud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4640" y="5378400"/>
            <a:ext cx="703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ff00"/>
                </a:solidFill>
                <a:latin typeface="Times New Roman"/>
              </a:rPr>
              <a:t>An interdisciplinary community h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ff00"/>
                </a:solidFill>
                <a:latin typeface="Times New Roman"/>
              </a:rPr>
              <a:t>emerged around the beta beam proje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BF2CD-EE6C-4A1E-BDC7-3153405302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69880" y="4303800"/>
            <a:ext cx="6272280" cy="1798920"/>
          </a:xfrm>
          <a:prstGeom prst="rect">
            <a:avLst/>
          </a:prstGeom>
          <a:solidFill>
            <a:srgbClr val="ffff99"/>
          </a:solidFill>
          <a:ln w="41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EURI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0720" y="976320"/>
            <a:ext cx="7347240" cy="2012040"/>
          </a:xfrm>
          <a:prstGeom prst="rect">
            <a:avLst/>
          </a:prstGeom>
          <a:solidFill>
            <a:srgbClr val="ffcccc"/>
          </a:solidFill>
          <a:ln w="41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NUFACT (superbeam/neutrino facto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87280" y="4938840"/>
            <a:ext cx="1567440" cy="520200"/>
          </a:xfrm>
          <a:prstGeom prst="rect">
            <a:avLst/>
          </a:prstGeom>
          <a:noFill/>
          <a:ln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isol production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rare ions</a:t>
            </a:r>
            <a:r>
              <a:rPr b="1" lang="fr-CH" sz="1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70000" y="4414680"/>
            <a:ext cx="3547080" cy="307080"/>
          </a:xfrm>
          <a:prstGeom prst="rect">
            <a:avLst/>
          </a:prstGeom>
          <a:noFill/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+betabeam acceleration to </a:t>
            </a:r>
            <a:r>
              <a:rPr b="1" lang="fr-CH" sz="1400" spc="-1" strike="noStrike">
                <a:solidFill>
                  <a:srgbClr val="000000"/>
                </a:solidFill>
                <a:latin typeface="Symbol"/>
                <a:ea typeface="Symbol"/>
              </a:rPr>
              <a:t></a:t>
            </a: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(CER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43320" y="1395360"/>
            <a:ext cx="2457360" cy="307080"/>
          </a:xfrm>
          <a:prstGeom prst="rect">
            <a:avLst/>
          </a:prstGeom>
          <a:noFill/>
          <a:ln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4 MW target st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04080" y="1382760"/>
            <a:ext cx="1657080" cy="307080"/>
          </a:xfrm>
          <a:prstGeom prst="rect">
            <a:avLst/>
          </a:prstGeom>
          <a:noFill/>
          <a:ln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collection, ho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43320" y="2513160"/>
            <a:ext cx="1479600" cy="307080"/>
          </a:xfrm>
          <a:prstGeom prst="rect">
            <a:avLst/>
          </a:prstGeom>
          <a:noFill/>
          <a:ln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Cool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19640" y="2360520"/>
            <a:ext cx="2457360" cy="520200"/>
          </a:xfrm>
          <a:prstGeom prst="rect">
            <a:avLst/>
          </a:prstGeom>
          <a:noFill/>
          <a:ln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muon acceleration and stor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6600" y="2475000"/>
            <a:ext cx="2457360" cy="672840"/>
          </a:xfrm>
          <a:prstGeom prst="rect">
            <a:avLst/>
          </a:prstGeom>
          <a:noFill/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+ proton/H</a:t>
            </a:r>
            <a:r>
              <a:rPr b="1" lang="fr-CH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 driv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nuclear-synergy grou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17800" y="3451320"/>
            <a:ext cx="1069200" cy="307080"/>
          </a:xfrm>
          <a:prstGeom prst="rect">
            <a:avLst/>
          </a:prstGeom>
          <a:noFill/>
          <a:ln w="414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NA : BE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473800" y="3631680"/>
            <a:ext cx="139680" cy="66060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05520" y="3124080"/>
            <a:ext cx="533160" cy="34308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523880" y="3098880"/>
            <a:ext cx="12960" cy="130788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53920" y="3962520"/>
            <a:ext cx="1969920" cy="307080"/>
          </a:xfrm>
          <a:prstGeom prst="rect">
            <a:avLst/>
          </a:prstGeom>
          <a:solidFill>
            <a:srgbClr val="ccffcc"/>
          </a:solidFill>
          <a:ln w="414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Large cavern and U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56480" y="3625920"/>
            <a:ext cx="533160" cy="34272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6600" y="1649520"/>
            <a:ext cx="2457360" cy="307080"/>
          </a:xfrm>
          <a:prstGeom prst="rect">
            <a:avLst/>
          </a:prstGeom>
          <a:noFill/>
          <a:ln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proton driver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486080" y="54000"/>
            <a:ext cx="70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Design studies (preliminary thought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36760" y="4884840"/>
            <a:ext cx="968760" cy="307080"/>
          </a:xfrm>
          <a:prstGeom prst="rect">
            <a:avLst/>
          </a:prstGeom>
          <a:noFill/>
          <a:ln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Driver  </a:t>
            </a:r>
            <a:r>
              <a:rPr b="1" lang="fr-CH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1" lang="fr-CH" sz="1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76120" y="5608800"/>
            <a:ext cx="1422720" cy="307080"/>
          </a:xfrm>
          <a:prstGeom prst="rect">
            <a:avLst/>
          </a:prstGeom>
          <a:noFill/>
          <a:ln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Post-accel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56360" y="5037120"/>
            <a:ext cx="1460520" cy="307080"/>
          </a:xfrm>
          <a:prstGeom prst="rect">
            <a:avLst/>
          </a:prstGeom>
          <a:noFill/>
          <a:ln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Mass sepa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33240" y="5634000"/>
            <a:ext cx="1162080" cy="307080"/>
          </a:xfrm>
          <a:prstGeom prst="rect">
            <a:avLst/>
          </a:prstGeom>
          <a:noFill/>
          <a:ln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5 MW tar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87120" y="5672160"/>
            <a:ext cx="2161800" cy="307080"/>
          </a:xfrm>
          <a:prstGeom prst="rect">
            <a:avLst/>
          </a:prstGeom>
          <a:noFill/>
          <a:ln w="414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Scientific instru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33A58-B86C-413B-9FFB-F82CE0C555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536840" y="1434960"/>
            <a:ext cx="355320" cy="2032200"/>
          </a:xfrm>
          <a:prstGeom prst="rect">
            <a:avLst/>
          </a:prstGeom>
          <a:solidFill>
            <a:srgbClr val="ff6600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1640" y="3492360"/>
            <a:ext cx="80899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26360" y="1460520"/>
            <a:ext cx="355320" cy="2031840"/>
          </a:xfrm>
          <a:prstGeom prst="rect">
            <a:avLst/>
          </a:prstGeom>
          <a:solidFill>
            <a:srgbClr val="ff6600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0" y="3149640"/>
            <a:ext cx="3733920" cy="342720"/>
          </a:xfrm>
          <a:prstGeom prst="rect">
            <a:avLst/>
          </a:prstGeom>
          <a:solidFill>
            <a:srgbClr val="ffcc00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88440" y="2550960"/>
            <a:ext cx="238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15 ms accelerated to 2.2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for spallation source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33360" y="646200"/>
            <a:ext cx="1017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3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2.2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for NuF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87600" y="3797280"/>
            <a:ext cx="481320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30920" y="3846600"/>
            <a:ext cx="62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20 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787320" y="672840"/>
            <a:ext cx="0" cy="281916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320" y="1217520"/>
            <a:ext cx="68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15 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00280" y="1409760"/>
            <a:ext cx="5076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00280" y="3137040"/>
            <a:ext cx="5076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8640" y="285588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3 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57880" y="4532400"/>
            <a:ext cx="340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total power at 2.2 GeV 4 MW X 2 = 8 M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89040" y="3137040"/>
            <a:ext cx="88920" cy="355320"/>
          </a:xfrm>
          <a:prstGeom prst="rect">
            <a:avLst/>
          </a:prstGeom>
          <a:solidFill>
            <a:srgbClr val="99ff66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82240" y="2624040"/>
            <a:ext cx="7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b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51240" y="2882880"/>
            <a:ext cx="63360" cy="190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D5F9D-8D05-4A41-B42D-538562BDFB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9720" y="149400"/>
            <a:ext cx="490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0000"/>
                </a:solidFill>
                <a:latin typeface="Times New Roman"/>
              </a:rPr>
              <a:t>Aim of the workshop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6480" y="1184400"/>
            <a:ext cx="9166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3333ff"/>
                </a:solidFill>
                <a:latin typeface="Times New Roman"/>
              </a:rPr>
              <a:t>Bring toge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- nuclear physicists (EURISOL community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- neutrino physicists (interested in superbeams an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beta beams to study neutrino mixing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- and machine scienti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3333ff"/>
                </a:solidFill>
                <a:latin typeface="Times New Roman"/>
              </a:rPr>
              <a:t>To determine the possible synergies between their respective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fr-CH" sz="2400" spc="-1" strike="noStrike">
                <a:solidFill>
                  <a:srgbClr val="ff0000"/>
                </a:solidFill>
                <a:latin typeface="Times New Roman"/>
              </a:rPr>
              <a:t>and hopefully propose coordinated design studies to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8C9E7-BAB9-4B57-9EE0-4127536D1B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982520" y="87480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Proposal by A.Mü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64920" y="1941480"/>
            <a:ext cx="1041840" cy="3070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EURISOL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58080" y="3224160"/>
            <a:ext cx="979200" cy="307080"/>
          </a:xfrm>
          <a:prstGeom prst="rect">
            <a:avLst/>
          </a:prstGeom>
          <a:noFill/>
          <a:ln w="414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NUFAC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3320" y="1471680"/>
            <a:ext cx="819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a litle group of people goes to brussels to talk to Brussels ans ask if the B-typ synergy is acceptable or no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56080" y="2347920"/>
            <a:ext cx="2105640" cy="307080"/>
          </a:xfrm>
          <a:prstGeom prst="rect">
            <a:avLst/>
          </a:prstGeom>
          <a:noFill/>
          <a:ln w="414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N normal working pa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12520" y="3645000"/>
            <a:ext cx="2369160" cy="307080"/>
          </a:xfrm>
          <a:prstGeom prst="rect">
            <a:avLst/>
          </a:prstGeom>
          <a:noFill/>
          <a:ln w="414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M normal working pack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18440" y="2716200"/>
            <a:ext cx="5766120" cy="307080"/>
          </a:xfrm>
          <a:prstGeom prst="rect">
            <a:avLst/>
          </a:prstGeom>
          <a:noFill/>
          <a:ln w="41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N+1 Looks into production and post-aceleration of beta beam up to g=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95920" y="4100400"/>
            <a:ext cx="5004360" cy="307080"/>
          </a:xfrm>
          <a:prstGeom prst="rect">
            <a:avLst/>
          </a:prstGeom>
          <a:noFill/>
          <a:ln w="41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Times New Roman"/>
              </a:rPr>
              <a:t>M+1 looks into the synergy of SPL with the nuclear commun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041D9-4C01-4751-B6FD-AEA2851F40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beam &amp;  Beta Beam  cost estimates (NUFACT02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28600" y="1371600"/>
          <a:ext cx="868680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86868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 txBox="1"/>
          <p:nvPr/>
        </p:nvSpPr>
        <p:spPr>
          <a:xfrm>
            <a:off x="304920" y="22860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0FB00-F1CB-466A-8D4D-D408178E7D12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320" y="1268280"/>
            <a:ext cx="8991360" cy="5005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12440" y="187200"/>
            <a:ext cx="428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0000"/>
                </a:solidFill>
                <a:latin typeface="Times New Roman"/>
              </a:rPr>
              <a:t>EXOTIC NUCLE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02876-B9C9-4CBF-802C-00CA760484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74600" y="0"/>
            <a:ext cx="87948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6000" spc="-1" strike="noStrike">
                <a:solidFill>
                  <a:srgbClr val="ff0000"/>
                </a:solidFill>
                <a:latin typeface="Times New Roman"/>
              </a:rPr>
              <a:t>EURISO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400F3-3D0B-4DAB-8D4D-79C330EA6A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07880" y="343080"/>
            <a:ext cx="65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eutrino mixing matrix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angles and a phase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78320" y="5051520"/>
            <a:ext cx="45626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known or poorly 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n after approved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 baseline="-25000">
                <a:solidFill>
                  <a:srgbClr val="ff031e"/>
                </a:solidFill>
                <a:latin typeface="Times New Roman"/>
              </a:rPr>
              <a:t>1</a:t>
            </a:r>
            <a:r>
              <a:rPr b="1" lang="en-US" sz="2400" spc="-1" strike="noStrike" baseline="-25000">
                <a:solidFill>
                  <a:srgbClr val="00ccff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,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as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,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 o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ff031e"/>
                </a:solidFill>
                <a:latin typeface="Times New Roman"/>
              </a:rPr>
              <a:t>1</a:t>
            </a:r>
            <a:r>
              <a:rPr b="1" lang="en-US" sz="2400" spc="-1" strike="noStrike" baseline="-25000">
                <a:solidFill>
                  <a:srgbClr val="00cc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12600" y="735120"/>
            <a:ext cx="5175000" cy="3286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264000" y="2678040"/>
            <a:ext cx="58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R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31000" y="1257480"/>
            <a:ext cx="863640" cy="0"/>
          </a:xfrm>
          <a:prstGeom prst="line">
            <a:avLst/>
          </a:prstGeom>
          <a:ln w="414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31000" y="2146320"/>
            <a:ext cx="863640" cy="0"/>
          </a:xfrm>
          <a:prstGeom prst="line">
            <a:avLst/>
          </a:prstGeom>
          <a:ln w="41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31000" y="2247840"/>
            <a:ext cx="863640" cy="0"/>
          </a:xfrm>
          <a:prstGeom prst="line">
            <a:avLst/>
          </a:prstGeom>
          <a:ln w="41400">
            <a:solidFill>
              <a:srgbClr val="ff03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08760" y="1231920"/>
            <a:ext cx="1800" cy="876240"/>
          </a:xfrm>
          <a:custGeom>
            <a:avLst/>
            <a:gdLst/>
            <a:ahLst/>
            <a:rect l="l" t="t" r="r" b="b"/>
            <a:pathLst>
              <a:path w="1" h="552">
                <a:moveTo>
                  <a:pt x="0" y="0"/>
                </a:moveTo>
                <a:lnTo>
                  <a:pt x="1" y="552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08760" y="2095560"/>
            <a:ext cx="0" cy="203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med"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74720" y="1442880"/>
            <a:ext cx="1400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1" lang="en-US" sz="1400" spc="-1" strike="noStrike" baseline="-25000">
                <a:solidFill>
                  <a:srgbClr val="00ccff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 3 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V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71040" y="2039760"/>
            <a:ext cx="214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 baseline="-25000">
                <a:solidFill>
                  <a:srgbClr val="ff031e"/>
                </a:solidFill>
                <a:latin typeface="Times New Roman"/>
              </a:rPr>
              <a:t>1</a:t>
            </a:r>
            <a:r>
              <a:rPr b="1" lang="en-US" sz="14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 3 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-5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1.5 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-4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V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31000" y="4229280"/>
            <a:ext cx="863640" cy="0"/>
          </a:xfrm>
          <a:prstGeom prst="line">
            <a:avLst/>
          </a:prstGeom>
          <a:ln w="414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31000" y="3352680"/>
            <a:ext cx="863640" cy="0"/>
          </a:xfrm>
          <a:prstGeom prst="line">
            <a:avLst/>
          </a:prstGeom>
          <a:ln w="41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31000" y="3479760"/>
            <a:ext cx="863640" cy="0"/>
          </a:xfrm>
          <a:prstGeom prst="line">
            <a:avLst/>
          </a:prstGeom>
          <a:ln w="41400">
            <a:solidFill>
              <a:srgbClr val="ff03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97320" y="2004840"/>
            <a:ext cx="95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ff031e"/>
                </a:solidFill>
                <a:latin typeface="Symbol"/>
                <a:ea typeface="Symbol"/>
              </a:rPr>
              <a:t>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4720" y="1814400"/>
            <a:ext cx="95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72120" y="976320"/>
            <a:ext cx="95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00ccff"/>
                </a:solidFill>
                <a:latin typeface="Symbol"/>
                <a:ea typeface="Symbol"/>
              </a:rPr>
              <a:t>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35480" y="3236760"/>
            <a:ext cx="95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ff031e"/>
                </a:solidFill>
                <a:latin typeface="Symbol"/>
                <a:ea typeface="Symbol"/>
              </a:rPr>
              <a:t>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22880" y="3033720"/>
            <a:ext cx="95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61040" y="3897360"/>
            <a:ext cx="95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00ccff"/>
                </a:solidFill>
                <a:latin typeface="Symbol"/>
                <a:ea typeface="Symbol"/>
              </a:rPr>
              <a:t>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80" y="3981600"/>
            <a:ext cx="51868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1" lang="en-US" sz="1600" spc="-1" strike="noStrike" baseline="-25000">
                <a:solidFill>
                  <a:srgbClr val="00ccff"/>
                </a:solidFill>
                <a:latin typeface="Times New Roman"/>
              </a:rPr>
              <a:t>3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tmospheric) = 45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ff031e"/>
                </a:solidFill>
                <a:latin typeface="Times New Roman"/>
              </a:rPr>
              <a:t>1</a:t>
            </a:r>
            <a:r>
              <a:rPr b="1" lang="en-US" sz="16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solar) = 3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ff031e"/>
                </a:solidFill>
                <a:latin typeface="Times New Roman"/>
              </a:rPr>
              <a:t>1</a:t>
            </a:r>
            <a:r>
              <a:rPr b="1" lang="en-US" sz="1600" spc="-1" strike="noStrike" baseline="-25000">
                <a:solidFill>
                  <a:srgbClr val="00ccff"/>
                </a:solidFill>
                <a:latin typeface="Times New Roman"/>
              </a:rPr>
              <a:t>3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Chooz) &lt; 1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5048280"/>
            <a:ext cx="4314960" cy="1809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094240" y="57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78960" y="3284640"/>
            <a:ext cx="214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 baseline="-25000">
                <a:solidFill>
                  <a:srgbClr val="ff031e"/>
                </a:solidFill>
                <a:latin typeface="Times New Roman"/>
              </a:rPr>
              <a:t>1</a:t>
            </a:r>
            <a:r>
              <a:rPr b="1" lang="en-US" sz="14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 3 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-5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1.5 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-4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V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51040" y="3830760"/>
            <a:ext cx="1400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1" lang="en-US" sz="1400" spc="-1" strike="noStrike" baseline="-25000">
                <a:solidFill>
                  <a:srgbClr val="00ccff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 3 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V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96160" y="3467160"/>
            <a:ext cx="1440" cy="749160"/>
          </a:xfrm>
          <a:custGeom>
            <a:avLst/>
            <a:gdLst/>
            <a:ahLst/>
            <a:rect l="l" t="t" r="r" b="b"/>
            <a:pathLst>
              <a:path w="1" h="472">
                <a:moveTo>
                  <a:pt x="0" y="0"/>
                </a:moveTo>
                <a:lnTo>
                  <a:pt x="0" y="472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96160" y="3301920"/>
            <a:ext cx="1440" cy="177840"/>
          </a:xfrm>
          <a:custGeom>
            <a:avLst/>
            <a:gdLst/>
            <a:ahLst/>
            <a:rect l="l" t="t" r="r" b="b"/>
            <a:pathLst>
              <a:path w="1" h="112">
                <a:moveTo>
                  <a:pt x="0" y="0"/>
                </a:moveTo>
                <a:lnTo>
                  <a:pt x="1" y="112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arrow" w="med"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58384-EADE-4978-9542-410647E686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-162000"/>
            <a:ext cx="9144000" cy="3746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439080" y="3949560"/>
            <a:ext cx="1962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A</a:t>
            </a:r>
            <a:r>
              <a:rPr b="1" lang="en-US" sz="4800" spc="-1" strike="noStrike" baseline="-25000">
                <a:solidFill>
                  <a:srgbClr val="ff6600"/>
                </a:solidFill>
                <a:latin typeface="Times New Roman"/>
              </a:rPr>
              <a:t>CP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5181480" y="4470480"/>
            <a:ext cx="3530880" cy="1440"/>
          </a:xfrm>
          <a:custGeom>
            <a:avLst/>
            <a:gdLst/>
            <a:ahLst/>
            <a:rect l="l" t="t" r="r" b="b"/>
            <a:pathLst>
              <a:path w="2224" h="1">
                <a:moveTo>
                  <a:pt x="0" y="0"/>
                </a:moveTo>
                <a:lnTo>
                  <a:pt x="2224" y="0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44280" bIns="-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8080" y="4467240"/>
            <a:ext cx="272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</a:t>
            </a:r>
            <a:r>
              <a:rPr b="1" lang="en-US" sz="2000" spc="-1" strike="noStrike">
                <a:solidFill>
                  <a:srgbClr val="969696"/>
                </a:solidFill>
                <a:latin typeface="Symbol"/>
                <a:ea typeface="Symbol"/>
              </a:rPr>
              <a:t></a:t>
            </a:r>
            <a:r>
              <a:rPr b="1" lang="en-US" sz="2000" spc="-1" strike="noStrike">
                <a:solidFill>
                  <a:srgbClr val="969696"/>
                </a:solidFill>
                <a:latin typeface="Times New Roman"/>
              </a:rPr>
              <a:t>solar term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49440" y="4008600"/>
            <a:ext cx="356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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n 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2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/4E)   si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4240" y="5100480"/>
            <a:ext cx="896040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ed large values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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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LMA) but *not* large si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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ed APPEARANCE  …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ff031e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</a:t>
            </a:r>
            <a:r>
              <a:rPr b="1" lang="en-US" sz="2000" spc="-1" strike="noStrike" baseline="-25000">
                <a:solidFill>
                  <a:srgbClr val="ff031e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s time reversal symmetric (reactors or sun are ou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n be </a:t>
            </a:r>
            <a:r>
              <a:rPr b="1" lang="en-US" sz="1800" spc="-1" strike="noStrike">
                <a:solidFill>
                  <a:srgbClr val="ff031e"/>
                </a:solidFill>
                <a:latin typeface="Times New Roman"/>
              </a:rPr>
              <a:t>larg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30%) for suppressed channel (one small angle vs two larg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 wavelength at which ‘solar’ (S)= ‘atmospheric’ (A) and for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66ff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3366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 baseline="-25000">
                <a:solidFill>
                  <a:srgbClr val="3366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cc66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cc66"/>
                </a:solidFill>
                <a:latin typeface="Symbol"/>
                <a:ea typeface="Symbol"/>
              </a:rPr>
              <a:t></a:t>
            </a:r>
            <a:r>
              <a:rPr b="1" lang="en-US" sz="2400" spc="-1" strike="noStrike" baseline="-25000">
                <a:solidFill>
                  <a:srgbClr val="33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ymmetry is opposite for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66ff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3366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 baseline="-25000">
                <a:solidFill>
                  <a:srgbClr val="3366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cc66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cc66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 baseline="-25000">
                <a:solidFill>
                  <a:srgbClr val="00ff99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3840" y="4483080"/>
            <a:ext cx="3073320" cy="1440"/>
          </a:xfrm>
          <a:custGeom>
            <a:avLst/>
            <a:gdLst/>
            <a:ahLst/>
            <a:rect l="l" t="t" r="r" b="b"/>
            <a:pathLst>
              <a:path w="1936" h="1">
                <a:moveTo>
                  <a:pt x="0" y="0"/>
                </a:moveTo>
                <a:lnTo>
                  <a:pt x="1936" y="0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44280" bIns="-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8240" y="3879720"/>
            <a:ext cx="27882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ff031e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</a:t>
            </a:r>
            <a:r>
              <a:rPr b="1" lang="en-US" sz="2800" spc="-1" strike="noStrike" baseline="-25000">
                <a:solidFill>
                  <a:srgbClr val="0066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- P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ff031e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</a:t>
            </a:r>
            <a:r>
              <a:rPr b="1" lang="en-US" sz="2800" spc="-1" strike="noStrike" baseline="-25000">
                <a:solidFill>
                  <a:srgbClr val="0066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5160" y="4514760"/>
            <a:ext cx="29358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ff031e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</a:t>
            </a:r>
            <a:r>
              <a:rPr b="1" lang="en-US" sz="2800" spc="-1" strike="noStrike" baseline="-25000">
                <a:solidFill>
                  <a:srgbClr val="0066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+ P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ff031e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</a:t>
            </a:r>
            <a:r>
              <a:rPr b="1" lang="en-US" sz="2800" spc="-1" strike="noStrike" baseline="-25000">
                <a:solidFill>
                  <a:srgbClr val="0066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60440" y="4013280"/>
            <a:ext cx="1778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44720" y="4013280"/>
            <a:ext cx="1778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24160" y="4635360"/>
            <a:ext cx="1778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82880" y="4635360"/>
            <a:ext cx="1778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41280" y="773280"/>
            <a:ext cx="2229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-189000" y="-165240"/>
            <a:ext cx="9434520" cy="425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ff031e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</a:t>
            </a:r>
            <a:r>
              <a:rPr b="1" lang="en-US" sz="2800" spc="-1" strike="noStrike" baseline="-25000">
                <a:solidFill>
                  <a:srgbClr val="0066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¦A¦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¦S¦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2 A S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n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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ff031e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</a:t>
            </a:r>
            <a:r>
              <a:rPr b="1" lang="en-US" sz="2800" spc="-1" strike="noStrike" baseline="-25000">
                <a:solidFill>
                  <a:srgbClr val="0066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¦A¦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¦S¦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2 A S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n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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ar’ (S)  --  ‘Atmospheric’ 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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1727280"/>
            <a:ext cx="1778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1739880"/>
            <a:ext cx="1778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8E26C-7CBE-4CA4-8CE2-5062B7333B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8960" y="393840"/>
            <a:ext cx="65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- Neutrino Factory --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ERN layo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84280" y="851040"/>
            <a:ext cx="7772400" cy="5445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041880" y="4440240"/>
            <a:ext cx="16020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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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36000" y="4178160"/>
            <a:ext cx="4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133680" y="4775040"/>
            <a:ext cx="787320" cy="368640"/>
          </a:xfrm>
          <a:prstGeom prst="line">
            <a:avLst/>
          </a:prstGeom>
          <a:ln w="442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67480" y="4863960"/>
            <a:ext cx="520920" cy="457200"/>
          </a:xfrm>
          <a:prstGeom prst="line">
            <a:avLst/>
          </a:prstGeom>
          <a:ln w="442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946280" y="5332320"/>
            <a:ext cx="947520" cy="581400"/>
          </a:xfrm>
          <a:prstGeom prst="rect">
            <a:avLst/>
          </a:prstGeom>
          <a:solidFill>
            <a:srgbClr val="ff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ra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iving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51240" y="5202360"/>
            <a:ext cx="2492640" cy="954360"/>
          </a:xfrm>
          <a:prstGeom prst="rect">
            <a:avLst/>
          </a:prstGeom>
          <a:solidFill>
            <a:srgbClr val="ff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scillates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racts giving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RONG SIGN MU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72400" y="2135160"/>
            <a:ext cx="91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08120" y="2903400"/>
            <a:ext cx="28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2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4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 =1.2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1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9640" y="5138640"/>
            <a:ext cx="16066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0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0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1160" y="4224240"/>
            <a:ext cx="14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9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1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085A5-289D-4884-A47B-3DABD5525A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SUPERBeam" descr=""/>
          <p:cNvPicPr/>
          <p:nvPr/>
        </p:nvPicPr>
        <p:blipFill>
          <a:blip r:embed="rId1"/>
          <a:stretch/>
        </p:blipFill>
        <p:spPr>
          <a:xfrm>
            <a:off x="457200" y="34308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807000" y="1459080"/>
            <a:ext cx="21189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00 MeV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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utri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mall contamination from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(no K at 2 GeV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5078520"/>
            <a:ext cx="5959440" cy="1129320"/>
          </a:xfrm>
          <a:prstGeom prst="rect">
            <a:avLst/>
          </a:prstGeom>
          <a:solidFill>
            <a:srgbClr val="ff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large underground water Cerenkov (400 kton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O/HyperK is best cho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so : proton decay search, supernovae events solar and atmospheric neutrin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43480" y="112680"/>
            <a:ext cx="365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sible step 0: Neutrino SUPERB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27360" y="4253040"/>
            <a:ext cx="20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éjus underground la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AB0AF-079A-4BE3-83C1-0F09B9CAD7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urope: SPL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j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5688000" cy="54086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 rot="18579000">
            <a:off x="542880" y="263592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Gen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90600" y="587376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Ita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47640" y="2997360"/>
            <a:ext cx="1368720" cy="32400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4000200">
            <a:off x="1355400" y="428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130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936960" y="1125360"/>
            <a:ext cx="4738680" cy="29988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74" name=""/>
          <p:cNvSpPr/>
          <p:nvPr/>
        </p:nvSpPr>
        <p:spPr>
          <a:xfrm flipH="1">
            <a:off x="1547640" y="1106640"/>
            <a:ext cx="2324160" cy="18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47640" y="3068640"/>
            <a:ext cx="2316240" cy="10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84400" y="5661000"/>
            <a:ext cx="162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40k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400k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79560" y="1122480"/>
            <a:ext cx="1334520" cy="581400"/>
          </a:xfrm>
          <a:prstGeom prst="rect">
            <a:avLst/>
          </a:prstGeom>
          <a:solidFill>
            <a:srgbClr val="ccff33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95000" y="4195800"/>
            <a:ext cx="3727080" cy="1313640"/>
          </a:xfrm>
          <a:prstGeom prst="rect">
            <a:avLst/>
          </a:prstGeom>
          <a:solidFill>
            <a:srgbClr val="ccff33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L @ C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2GeV, 50Hz, 2.3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14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pu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M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w under R&amp;D 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108F9-9D40-4668-962B-B3907A2632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5T07:30:21Z</dcterms:created>
  <dc:creator>Alain Blondel</dc:creator>
  <dc:description/>
  <dc:language>en-US</dc:language>
  <cp:lastModifiedBy>bdl</cp:lastModifiedBy>
  <cp:lastPrinted>2001-11-08T10:22:42Z</cp:lastPrinted>
  <dcterms:modified xsi:type="dcterms:W3CDTF">2003-03-22T00:18:47Z</dcterms:modified>
  <cp:revision>152</cp:revision>
  <dc:subject/>
  <dc:title>Neutrino Physics</dc:title>
</cp:coreProperties>
</file>